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764-7197-4FFF-8DE4-83B659EC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F2B-9542-4D15-B10F-AB2AAE39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DD9-D1C7-4465-BA94-6CF86871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330-CF92-4FBA-BFBC-9E9B50C8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160FF-C2FC-4638-9410-683762BB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6BC93-8CDB-4531-B5A4-7A8D873A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D59B2-8D01-4B87-A7DA-098C5A2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AD44F-64DE-42D9-8F58-F4C1F38E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D77DB-8070-4E8F-AD22-9FC5FE95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A5E27-D22B-4884-88C5-D9BB7DF2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E4A0D-D248-4CFD-897C-51AB6A3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B54-AC8F-4870-BD15-F3DBD737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FD8D9-9B8A-423B-8E81-B47173CA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E242-DA7F-4504-97F3-8FFF38F6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C2581-566A-4DCE-ACED-ACDA99C8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C2EE1-6F42-46EA-A2CE-183A5693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2A2C5-28D7-4FD0-8874-6D05172A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C44-28C5-4554-A318-1F1FDF36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B58-A777-46BF-B07C-48FDA4EF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B61-2053-48AB-9C3E-A49FEF26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B16-4E85-409C-A438-1301EDDF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946-A77A-456F-904F-341CACDA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6EC-C308-4748-A197-038B63D6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26B-7D8E-4155-9FDD-F3C891D6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4264-6D07-4312-A1B2-55685B4223DA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4B70-C293-4286-8B77-CC14D631B2AE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14600" y="304920"/>
            <a:ext cx="424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rtea cu ochi albast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4952880"/>
            <a:ext cx="302904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tea isi are un miez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 de fraga.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 ochii din cap o 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zesc.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 mi-e draga. - Grigore Vieru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943600" y="6400800"/>
            <a:ext cx="2819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TANIA CONSTANT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omponentele situatiei de comunica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Emitato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Recepto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Mesaj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od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anal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ontext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219320" y="533520"/>
            <a:ext cx="7238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copul lucrarii este de a arata important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tilor si de a transmite tutu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ptul 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vatatura nu are varsta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1065400">
            <a:off x="6771960" y="3897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rot="510000">
            <a:off x="1101240" y="3935520"/>
            <a:ext cx="2133720" cy="180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447920" y="4114800"/>
            <a:ext cx="6524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GULI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TIPARIRE A CARTILO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533520"/>
            <a:ext cx="784836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Titlul va fi scris cu litere majuscu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 Black"/>
              </a:rPr>
              <a:t>ingrosate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 Black"/>
              </a:rPr>
              <a:t>Imediat sub el vom trece numele autorului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 Black"/>
              </a:rPr>
              <a:t>Textul va incepe cu alineat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 Black"/>
              </a:rPr>
              <a:t>iar prima litera a lui va fi letrina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362320" y="533520"/>
            <a:ext cx="32194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imele cart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96080" y="4648320"/>
            <a:ext cx="122868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52280" y="4343400"/>
            <a:ext cx="1738440" cy="291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981080" y="1905120"/>
            <a:ext cx="5824800" cy="31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antichitate se scria pe tabli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argila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i tarziu, se scria pe perga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ulat in jurul unui betiosor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a a aparut CARTEA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imele carti erau sfinte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astirile fiind centre de cult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086600" y="76320"/>
            <a:ext cx="174456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Rockwell"/>
              </a:rPr>
              <a:t>In cazul textelor importante, sulul de pergament era protejat de un toc de piele-stramosul copertelor de astaz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Rockwell"/>
              </a:rPr>
              <a:t>Treptat, tot pentru a fi protejat textul, au aparut mai multe inovatii:coperta care era alcatuita din placute de lemn invelite in piele, in aur si in argint, numerotarea filelor, notarea titlului la incepu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Rockwell"/>
              </a:rPr>
              <a:t>In evul mediul, pe langa obiect de cltura, cartea devenise si obiect de lux: filele aveau ornamante, majuscule erau impodobita migalos, coperta era confectionata din metale rare, fin cizelate, si era impodobita cu pietre pretioa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Rockwell"/>
              </a:rPr>
              <a:t>In secolul al XII-lea, apare in Europa un nou material ca suport pentru scriere:hartia; de fapt, hartia fusese inventata de chinezi cu aproximativ o mie de ani in urm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00400" y="152280"/>
            <a:ext cx="1905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Stiati c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 rot="21068400">
            <a:off x="609480" y="1600200"/>
            <a:ext cx="7620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RTEA A DEVENIT MIJLOC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INFORMARE ACCESIB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UTURO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71600" y="457200"/>
            <a:ext cx="6134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PARTILE COMPONEN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ALE UNEI CART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2438280"/>
            <a:ext cx="22096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Cupri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Er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No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Postf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 Black"/>
              </a:rPr>
              <a:t>Pref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 Black"/>
              </a:rPr>
              <a:t>Tabel biogtaf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 Black"/>
              </a:rPr>
              <a:t>Bibliograf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Retineti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Ori de cate ori are loc transmiterea unor informatii privind ganduri, idei, opinii, atitudini, evenimente, steri etc…, este vorba despre o SITUATIE DE COMUNIC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8:12:42Z</dcterms:created>
  <dc:creator>Tomita&amp;Silvia</dc:creator>
  <dc:description/>
  <dc:language>en-US</dc:language>
  <cp:lastModifiedBy>Tomita&amp;Silvia</cp:lastModifiedBy>
  <dcterms:modified xsi:type="dcterms:W3CDTF">2010-11-12T15:15:28Z</dcterms:modified>
  <cp:revision>12</cp:revision>
  <dc:subject/>
  <dc:title>Slide 1</dc:title>
</cp:coreProperties>
</file>